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CCF3-7418-4CC9-A59F-AD0093B27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ar not an occasion for individual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709-834C-493F-8D52-3A99007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CE9-33C6-470D-851F-15EE7E83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767-8F77-4E07-8EC2-5895BAAE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5F8-FCA7-4726-A533-EC8B65EB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26D-EFC7-46F5-9AF6-CBD76BD6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B44-713B-4DBD-A8CF-B26D21A1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41A-F6B1-4CD1-B510-53CA9507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361-F0C6-491C-93BE-BE6A6EF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17A-0483-46D0-BAAD-95339460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936-58E6-424D-B914-63CCE954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D14-26B8-4ACA-8DB0-13736AF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957-FEE6-440E-A871-DD4B895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038E-231C-4255-9224-DF468E68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not to b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justifi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with reference to its general salutary effects in any particula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justification of any particular war will always have to do with the specific “welfare” of a state, but not with the abstract preservation of a state’s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is the World’s Court of Judgment: the rise and fall of states in history reveals the judgment of spi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very age, certain states rise to be the representatives of dominant cultural forms that embody certain moments of the histor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gel identifies “Oriental” states, Greece, Rome, and the German states as important stages in the development towards ever more differentiated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gel predicts that modern warfare will be more “rational” because more abstract and less individu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“individuality” or “sovereignty” of the state is in tension with the idea that war must, and can, b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idea of a historical unfolding of the spirit leading to the ethical state seems to lead to perpetual peace anyway (“The End of Histo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x “inverts” H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tates do not embody any special values; they represent dominan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unfolds in a rational process towards greater freedom and rationality, but through a conflict of classes over resources rather than a conflict of ideas over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dividual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hitherto existing forms of society (including Hegel’s rational state), the individual is alienated from his social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 communist society can the individual be reconciled to the community without losing his or her individ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 and Rouss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forms of society start as undifferentiated unities (e.g., no division of lab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vision of labor introduces conflict and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rationality of history ensures that such conflict will eventually be h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orm of society is characterized by i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 of p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way in which labor is typically divided so as to produce and reproduce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de of production involves some characteristic and deep-se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l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slaves and masters in slave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lord and peasant in feudal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capital and labor in capitalis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each new form of society represents an advance in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udal societies are freer, in important ways, than slave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st societies are freer, in important ways, than feudal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ach form of society prepares the way for the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eudal society paves the way for the development of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pitalism paves the way for the development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ec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ifferentiated unity (e.g., the family, early civiliz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unity (e.g., civil society, later civiliz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ity (e.g., the state, contemporary German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sm is characterized by the conflict between capital and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is alienated from its products and exploited by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eings fail to control their join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capitalism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v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ver other forms of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ive forces unleashed by capitalism increase the possibilities for human self-realization, even if they restrict them to the capit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l freedom of choice afforded to labor is a real increase in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represents the socialization of the mean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als the alienation of labor from its products: there is no more conflict between capital and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presents the conscious control of social life by its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presents an ideal of self-re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or may not be brought about by violent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 an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ultimately caused by the same conflicts that characterize a mode of production, and can only be eliminated by their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sm leads to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also leads to the conditions for the elimination of war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pitalism is the precondition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 and perpetual pe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Kant, Marx subscribes to a version of the perpetual peace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Hegel, Marx believes one can say that history is essentially 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Hegel, Marx believes one can predict the future: communism, and hence perpetual peace, is inev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ster and the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wants to force recognition from the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only way the recognition is worth anything is if the slave is free to gi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ine recognition always requires the freedom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 and Sovereig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re sovereign insofar as they can receive recognition, which is only given by oth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sovereignty of states also reflects their status as the embodiment of re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part of the rational process of history and a possibility that is inherent in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“purpose” of war is not to lead to perpetual peace, but to preserve and enhance a particular manifestation of spirit, a cultural identity in ration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ithout th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sibility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 war (of existential conflict), the state would disintegrate into 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federation of states could not eliminate this possibility without also eliminating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r and 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enhances shared values – the unity of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ts people out of their concern with material possessions characteristic of civil society: promotes civic virtue (as “selflessnes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nhances the unity of the state which is likely to fragment by prolonge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ar should be limited by the fact of mutual recognition: it ought to come to an end in a way that preserves the possibility of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stility in modern war should be abstract, not individu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r is a conflict between states, and hence militaries as the class of people who have the function of warmaking in the state and embody its 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et war can always devolve into a war of survival; this is necessary for war to serve it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eatment of soldiers, etc. depends merely on customs, but these customs embody valid conceptions of right in a historical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modern times war is limited in the European context through common custom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06:19Z</dcterms:created>
  <dc:creator>Full Name</dc:creator>
  <dc:description/>
  <dc:language>en-US</dc:language>
  <cp:lastModifiedBy>Xavier Marquez</cp:lastModifiedBy>
  <dcterms:modified xsi:type="dcterms:W3CDTF">2008-10-02T18:39:41Z</dcterms:modified>
  <cp:revision>2</cp:revision>
  <dc:subject/>
  <dc:title>Hegel and Marx</dc:title>
</cp:coreProperties>
</file>